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0B38-F465-404F-9700-9CBF49073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BD9E-15CB-45F2-9452-98136147DC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E008-CA62-4873-A326-B227FA79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E6E-DB4B-46C9-BB77-F5E656BC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590-6477-41F5-A8BF-2203A989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6569-B1F0-41F4-B208-4E4073AB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2040-AFF1-46B5-B73F-D4162AFD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57C8-6F21-49AA-A422-508290F8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CA54-40E7-4CFF-BA6A-6EAC0B3E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F4F0-197C-420C-98B0-AF59E52C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56B6-3800-404C-A13E-CF79392E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B2A8-993C-40C2-ADEC-5D5EB29F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ED83-FC2F-4CB9-8BA5-58C2AA0F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FE8-D38C-4A00-9807-3A7426FD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F30D-9BDE-4578-8FA5-CA2764FC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B9E0-62D7-4ABD-AEE3-C4A7C555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AD37-67E9-46A1-8A30-579BFC94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B17A-E8A2-4800-BA8E-80785177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EE2-EEFB-4179-A0C0-CCBD9D0B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3A4-73C6-4CA2-8C7C-BBAFD5E5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B39-49F2-495B-96B6-09BF5E53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3E4-1A35-4187-83FE-DE723457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41BB-0EFA-4778-9036-B12745FE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73D-F783-4551-8823-6405F426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0F6-D568-4E10-9CA5-28C046C8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01A6-AB00-4EFE-8BDB-635D4D41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9612-9C4A-4AB3-839E-44829E452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435-A9D7-43AC-9189-352AC76C77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writing prom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explain your answer in complete sent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fundamental difference between the Virginia and New Jersey Plan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556000" y="2971800"/>
            <a:ext cx="4032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3T12:51:38Z</dcterms:modified>
  <cp:revision>123</cp:revision>
  <dc:subject/>
  <dc:title>D/O: TO EXPLAIN AND IDENTIFY PROBLEMS OF ECONOMICS</dc:title>
</cp:coreProperties>
</file>